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10.wmf" ContentType="image/x-wmf"/>
  <Override PartName="/ppt/media/image2.png" ContentType="image/png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1.png" ContentType="image/png"/>
  <Override PartName="/ppt/media/image22.wmf" ContentType="image/x-wmf"/>
  <Override PartName="/ppt/media/image19.png" ContentType="image/png"/>
  <Override PartName="/ppt/media/image18.wmf" ContentType="image/x-wmf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3E1E-1F00-492F-8B5C-B3365550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statis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eople show that h, r are not indepedendent but conditionally independent given that A = {r &lt; 3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random variable is a random variable like any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ed with some experiment – flipping a coin – which gave us our samp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fined 2 random variables on that sample space: h and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se 2 random variables, its values represented events which, taken together, represented an event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en we define a new random variable using the other 2, this new random variable behaves exactly the same way as each of the original 2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o back to the event space and define the values of the new random variable for each point in the sample space. From that we also have the P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y PMF probability mass function – if you think of probability as a physical weight – and the x axis as the position, then computing E[x] is like computing where the center of mass will be on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F gives us the mass. PDF gives us the density. Density is mass per unit volume, mass/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F provides the same type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last time (do each concept as a class/ objec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oints in a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ly exclusive, collectively exhaustive, finest g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on that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space is a group of events that mutually exclusive and collectively exhaus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each sample point and add those together to get the probability of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 Probability:P(A|B) = P(AB)/P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: P(A|B) = P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LO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picture looked lik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sample points in a sample space (draw the sample points and sample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ample point is a member of  a list of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is a list of 0 or more sample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8 sample poi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are collections of sample points. We can group sample points together into events based on each sample points’ value of a particular random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4 events based on the random variable h = 0,1,2,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3 events based on the random variable r = 1,2,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6 events based on the intersection of the random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alue of our random variable represents an event in the event space for that random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h0 is a particular value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efine the PMF from the samp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is is an event space, its not finest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lets say we wanted to know whether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ss resulted in heads. We wouldn’t be able to use this to answer tha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it’s a 3d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how you go from compound to marginal pmf. Show that you can’t go visa-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896-FF54-48F0-BB79-542760D3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9A1-1B48-45F3-9823-D681AE18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B9C-D8D9-47FD-93F5-E5925250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25F-2E52-4500-8B9F-B8CDC0A1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2B1-6A69-44AB-AAFB-994003C3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2EF-0561-4D01-94EC-8E5E5D7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4EE-5699-4A38-A199-DE61E10F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BCB-8EF7-46AE-96D4-2834AFF2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31C-CC46-4A97-BB71-8B1115FB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535-0D2E-4DD1-A2A3-44D7D68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ED8-94B3-42B9-954C-A3F51F95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831-2889-46BD-A285-60DC3C65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6636-A65A-4411-8761-8C3A5C789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8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y prob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9280" y="20574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9051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254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are independent i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0, y0:  P(x0y0) = P(x0)*P(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95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0|y0) = P(x0y0) / P(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657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114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are conditionally independent if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0, y0:  P(x0y0 | A) = P(x0|A)*P(y0|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5335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defined on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on random variable(s) creates a new random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3962520" cy="304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35120" y="480060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f(h, r) =  h*r = {0, 1, 2, 4,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5639040" cy="57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94000" y="220968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 = f(h) =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{0, 1, 4, 9}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533520"/>
            <a:ext cx="82296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 of all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x]  = ∑ [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g(x)]  = ∑ [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w] = E[g(x,y)] = ∑ [ ∑ [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624120"/>
            <a:ext cx="82296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spread of the PMF around the expect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∑ [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[x]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 = E[ (x – E[x]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inuous Sample Spaces, Event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840" y="2514600"/>
            <a:ext cx="336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, Weigh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640" y="1295280"/>
            <a:ext cx="83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infinitely many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876920"/>
            <a:ext cx="6400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6704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5904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272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852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220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718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55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813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504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488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071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084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838080" y="1066680"/>
            <a:ext cx="7086600" cy="1684080"/>
            <a:chOff x="838080" y="1066680"/>
            <a:chExt cx="7086600" cy="16840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838080" y="1066680"/>
              <a:ext cx="678204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00600" y="1226880"/>
              <a:ext cx="3124080" cy="14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3520" y="533520"/>
            <a:ext cx="82296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mulative Density Function (C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mulative Density Function (C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760" y="386388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4425840"/>
            <a:ext cx="8153640" cy="212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304920" y="1143000"/>
          <a:ext cx="4038480" cy="26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4724280" y="1143000"/>
            <a:ext cx="4029120" cy="2693880"/>
            <a:chOff x="4724280" y="1143000"/>
            <a:chExt cx="4029120" cy="2693880"/>
          </a:xfrm>
        </p:grpSpPr>
        <p:graphicFrame>
          <p:nvGraphicFramePr>
            <p:cNvPr id="169" name=""/>
            <p:cNvGraphicFramePr/>
            <p:nvPr/>
          </p:nvGraphicFramePr>
          <p:xfrm>
            <a:off x="4724280" y="1143000"/>
            <a:ext cx="4029120" cy="269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1143000"/>
                      <a:ext cx="4029120" cy="26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 flipV="1">
              <a:off x="5553000" y="1371600"/>
              <a:ext cx="25905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533520"/>
            <a:ext cx="8229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Density Function (P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f(x)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1839960"/>
            <a:ext cx="5257800" cy="850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76240" y="2971800"/>
            <a:ext cx="6591240" cy="1730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3520" y="5562720"/>
            <a:ext cx="2666880" cy="984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638680" y="5602320"/>
            <a:ext cx="1752840" cy="79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5400000">
            <a:off x="3657600" y="1752120"/>
            <a:ext cx="533520" cy="6477120"/>
          </a:xfrm>
          <a:custGeom>
            <a:avLst/>
            <a:gdLst>
              <a:gd name="textAreaLeft" fmla="*/ 0 w 533520"/>
              <a:gd name="textAreaRight" fmla="*/ 192600 w 533520"/>
              <a:gd name="textAreaTop" fmla="*/ 168840 h 6477120"/>
              <a:gd name="textAreaBottom" fmla="*/ 6308280 h 647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ve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559400" cy="165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132240" cy="1614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it-Impuls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360" y="14079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erivative of f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4880" y="5708520"/>
            <a:ext cx="24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’(x) d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7200" y="5599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616600">
            <a:off x="1638360" y="23238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616600">
            <a:off x="3695760" y="36954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676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556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228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MF &amp; 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865080"/>
            <a:ext cx="1752480" cy="582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2057400" cy="517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410080" y="6078600"/>
            <a:ext cx="1905120" cy="703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543800" y="6219720"/>
            <a:ext cx="106668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762120" y="1295280"/>
          <a:ext cx="3657600" cy="24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295280"/>
                    <a:ext cx="365760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029200" y="990720"/>
          <a:ext cx="373392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37339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67280" y="1206360"/>
            <a:ext cx="2826000" cy="1917720"/>
          </a:xfrm>
          <a:custGeom>
            <a:avLst/>
            <a:gdLst/>
            <a:ahLst/>
            <a:rect l="l" t="t" r="r" b="b"/>
            <a:pathLst>
              <a:path w="1780" h="1208">
                <a:moveTo>
                  <a:pt x="0" y="1208"/>
                </a:moveTo>
                <a:lnTo>
                  <a:pt x="176" y="848"/>
                </a:lnTo>
                <a:lnTo>
                  <a:pt x="376" y="552"/>
                </a:lnTo>
                <a:lnTo>
                  <a:pt x="696" y="320"/>
                </a:lnTo>
                <a:lnTo>
                  <a:pt x="968" y="184"/>
                </a:lnTo>
                <a:lnTo>
                  <a:pt x="1248" y="88"/>
                </a:lnTo>
                <a:lnTo>
                  <a:pt x="178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724280" y="685800"/>
            <a:ext cx="4159440" cy="527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77120" y="228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81480" y="3809880"/>
          <a:ext cx="3733920" cy="2667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1480" y="3809880"/>
                    <a:ext cx="3733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943600" y="5029200"/>
            <a:ext cx="289548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3962520"/>
          <a:ext cx="4038840" cy="2695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9480" y="3962520"/>
                    <a:ext cx="4038840" cy="26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0" y="37479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und Probability Densit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5200" y="1066680"/>
            <a:ext cx="8013600" cy="3116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073160" y="4302000"/>
            <a:ext cx="69976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0560" y="2286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 = {&lt; 3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685800"/>
            <a:ext cx="312444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6360" y="16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896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408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7336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600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0600" y="1690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832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38520" y="1676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272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9400" y="1690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308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685800"/>
            <a:ext cx="685800" cy="1295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71600"/>
            <a:ext cx="2590920" cy="6094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80560" y="21477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 = {od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96520" y="304920"/>
            <a:ext cx="339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Sam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&lt;SamplePoints&gt; allSamplePoi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98200" y="2666880"/>
            <a:ext cx="319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ModelOf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Point doExperi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Space getSampleSpa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an generate this using tre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ordinat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94720" y="1447920"/>
            <a:ext cx="3280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Sample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Event&gt; eventsIAmAMemberO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loat probabili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11920" y="3048120"/>
            <a:ext cx="4257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SamplePoint&gt; samplePointsIConta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loat computeProbability();//sum over sample 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1640" y="5505480"/>
            <a:ext cx="3271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complement(Event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intersection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union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36232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962520"/>
            <a:ext cx="3809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6920" y="4394160"/>
            <a:ext cx="4557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 | B)  = P(AB)/P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vent condProb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 | B) = P(A),  or P(AB) = P(A)P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oolean areIndependent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nditional In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B | C) = P(A|C)P(B|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oolean areCondInd(Event A, Event B, Event 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ayes Theorem,  Combinations, Permu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680000"/>
            <a:ext cx="29718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5334120"/>
            <a:ext cx="3708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94360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2133720"/>
            <a:ext cx="3124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38768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Event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Event&gt; specialSetOfEve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838080"/>
            <a:ext cx="2590920" cy="6098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05680" y="2286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 = {eve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47600" y="1066680"/>
            <a:ext cx="7048800" cy="1043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104840" y="2057400"/>
            <a:ext cx="7658280" cy="59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93800" y="2590920"/>
            <a:ext cx="7556400" cy="1081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480" y="3505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860480" y="5029200"/>
            <a:ext cx="5423040" cy="156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09480" y="4075200"/>
            <a:ext cx="8115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74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92280" y="4390920"/>
            <a:ext cx="7759440" cy="155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0800" y="1143000"/>
            <a:ext cx="75009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Variables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5335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ttribute of an experimental outc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Random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53352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Flip a coin 3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320976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53000" y="2438280"/>
            <a:ext cx="461880" cy="373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84880" y="2514600"/>
            <a:ext cx="63504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2741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total # of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length of longest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g. 2 tails in a 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ship btw. random variables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1800" y="2876400"/>
            <a:ext cx="8420400" cy="398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50280" y="3495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9160" y="34956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4120" y="4302000"/>
            <a:ext cx="6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3080" y="43020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5840" y="52484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40080" y="52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8880" y="1878120"/>
            <a:ext cx="8197920" cy="941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02840" y="1752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5520" y="1766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6440" y="129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06440" y="1523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8720" y="1766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10400" y="1295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10400" y="153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7280" y="17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457440"/>
            <a:ext cx="82296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F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robability that the experimental outcome will have h =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6600" y="1905120"/>
            <a:ext cx="8197920" cy="941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88120" y="15238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) =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16920" y="15238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=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45720" y="15382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=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69960" y="15382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=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24280" y="5715000"/>
            <a:ext cx="236232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600200" y="5715000"/>
            <a:ext cx="26668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5335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of 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438280"/>
          <a:ext cx="5180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5180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19920" y="2263680"/>
            <a:ext cx="2361960" cy="78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867280" y="1447920"/>
            <a:ext cx="266724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522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und 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24280" y="3476520"/>
            <a:ext cx="3391200" cy="95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962520" cy="3044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76920" y="4583160"/>
            <a:ext cx="3593880" cy="903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15080" y="5472000"/>
            <a:ext cx="3543120" cy="9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0880" y="685800"/>
            <a:ext cx="7925040" cy="1230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2008080"/>
            <a:ext cx="8229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8:35:41Z</dcterms:created>
  <dc:creator>Ben</dc:creator>
  <dc:description/>
  <dc:language>en-US</dc:language>
  <cp:lastModifiedBy>Ben</cp:lastModifiedBy>
  <dcterms:modified xsi:type="dcterms:W3CDTF">2010-11-17T03:31:32Z</dcterms:modified>
  <cp:revision>811</cp:revision>
  <dc:subject/>
  <dc:title>Slide 1</dc:title>
</cp:coreProperties>
</file>